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1DBE-CDC1-4C7E-BE01-24523450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520" y="3820680"/>
            <a:ext cx="877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FFEC-C27F-4BC2-89C8-5509CF51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108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520" y="382068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1080" y="382068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FC71-46A3-4A86-B7FF-ECAA97C4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1080" y="109692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19280" y="109692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520" y="382068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1080" y="382068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19280" y="382068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5A1-2160-43AC-83B2-EBF8F9FF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DB6-C020-4B08-8A7C-3AFE7550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CB53-0BFB-4CB3-934E-3DB2538B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428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080" y="1096920"/>
            <a:ext cx="428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ADF-B4C0-4923-940C-D6464BC8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D10-9FC7-4758-9D9A-71FAD15B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0760" y="27432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B39-3FCD-4937-B92D-8887B855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080" y="1096920"/>
            <a:ext cx="428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520" y="382068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3A6-22D8-416D-8651-57CFF3A7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428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08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1080" y="382068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9CCA-9937-461F-BA4C-E74F3624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08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520" y="3820680"/>
            <a:ext cx="877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E517-B3FA-4F61-B3DF-91DF3CDF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5A1B-DBCF-48EB-9782-1CA4B81F907A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2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76040" y="152280"/>
            <a:ext cx="8815680" cy="882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01000" y="152280"/>
            <a:ext cx="995400" cy="8827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47872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gsmarena.com/sagem_vs1-pictures-1181.php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4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362320"/>
            <a:ext cx="7010640" cy="120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nion"/>
              </a:rPr>
              <a:t>Jerry Introductio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Minion"/>
              </a:rPr>
              <a:t>- for Beijing Workshop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Kheng-Wah K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ategory Management, Beij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3 Feb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chedule communicated to Vodafon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dafone’s requires BenQ to regularly update them on Jerry project status and align with their project sched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dates communicated to Vodafone curr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sign freeze (“S0”): 28 F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1+ samples: 9 J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mpleted sw and hw (“S25”): 22 J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cceptance Testing Start: 3 J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er guide and packaging finalized: 21 J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chnical Acceptance reached: 22 S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irst shipment out of factory: 28 S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livery Star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 Sept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60385" t="0" r="0" b="0"/>
          <a:stretch/>
        </p:blipFill>
        <p:spPr>
          <a:xfrm>
            <a:off x="7726320" y="4022640"/>
            <a:ext cx="1152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troduc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is part of a “package deal” agreement with Vodafone that includes 2 other BenQ 3G products. This project is therefor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strategic impor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dafone has requested delivery starts (DS) for Jerry in September 2006, to be in-time for their year-end Christmas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20765" r="27355" b="22176"/>
          <a:stretch/>
        </p:blipFill>
        <p:spPr>
          <a:xfrm>
            <a:off x="914400" y="5121360"/>
            <a:ext cx="3313080" cy="533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21320" y="5075280"/>
            <a:ext cx="315432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520" y="2696760"/>
            <a:ext cx="87789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Vodafone Simply offers simple, easy-to-use mobile phones and clear tariffs targeting at the middle-aged and older-aged consum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760" y="1920960"/>
            <a:ext cx="3162240" cy="546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11430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文鼎中黑"/>
              </a:rPr>
              <a:t>Jerry is designed exclusively for </a:t>
            </a:r>
            <a:r>
              <a:rPr b="0" lang="en-US" sz="2400" spc="-1" strike="noStrike">
                <a:solidFill>
                  <a:srgbClr val="fe2716"/>
                </a:solidFill>
                <a:latin typeface="Arial"/>
                <a:ea typeface="文鼎中黑"/>
              </a:rPr>
              <a:t>Vodafone Sim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文鼎中黑"/>
              </a:rPr>
              <a:t>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10022" r="0" b="0"/>
          <a:stretch/>
        </p:blipFill>
        <p:spPr>
          <a:xfrm>
            <a:off x="960480" y="4114800"/>
            <a:ext cx="2560680" cy="1521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rcRect l="0" t="6441" r="0" b="30110"/>
          <a:stretch/>
        </p:blipFill>
        <p:spPr>
          <a:xfrm>
            <a:off x="6035760" y="3978360"/>
            <a:ext cx="19256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520" y="1646280"/>
            <a:ext cx="87789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Vodafone Simply mobile phones are designed for users who w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n easy-to-use phone only for voice calls and tex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o keep in touch easily with your family and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nd uncomplicated phone with built-in helpful tip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mobile phones intuitively designed to provide only the functions users really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680" y="1189080"/>
            <a:ext cx="3162240" cy="546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8429" r="0" b="0"/>
          <a:stretch/>
        </p:blipFill>
        <p:spPr>
          <a:xfrm>
            <a:off x="3840120" y="4114800"/>
            <a:ext cx="1681200" cy="232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0" t="14038" r="0" b="0"/>
          <a:stretch/>
        </p:blipFill>
        <p:spPr>
          <a:xfrm>
            <a:off x="6354720" y="4160880"/>
            <a:ext cx="1478160" cy="1911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rcRect l="0" t="20076" r="0" b="0"/>
          <a:stretch/>
        </p:blipFill>
        <p:spPr>
          <a:xfrm>
            <a:off x="549360" y="4160880"/>
            <a:ext cx="205272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dafone Simply phones are to be designed and realized according to Vodafone specified requireme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 Simply Rel. 1 : Sagem VS1 and V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 Simply Rel. 2: Sagem VS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 Simply Rel.3: BenQ Jerry (VS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Vofafone Simply Sagem VS3"/>
          <p:cNvPicPr/>
          <p:nvPr/>
        </p:nvPicPr>
        <p:blipFill>
          <a:blip r:embed="rId1"/>
          <a:stretch/>
        </p:blipFill>
        <p:spPr>
          <a:xfrm>
            <a:off x="5303880" y="3108240"/>
            <a:ext cx="415800" cy="1203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Sagem VS1&#10;MORE PICTUR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92960" y="2011320"/>
            <a:ext cx="822240" cy="110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Sagem VS2"/>
          <p:cNvPicPr/>
          <p:nvPr/>
        </p:nvPicPr>
        <p:blipFill>
          <a:blip r:embed="rId4"/>
          <a:stretch/>
        </p:blipFill>
        <p:spPr>
          <a:xfrm>
            <a:off x="7497720" y="1965240"/>
            <a:ext cx="514440" cy="1203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851440" y="4572000"/>
            <a:ext cx="492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What’s unique about Jerry requirements?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2" name="" descr="Special Buttons"/>
          <p:cNvPicPr/>
          <p:nvPr/>
        </p:nvPicPr>
        <p:blipFill>
          <a:blip r:embed="rId1"/>
          <a:stretch/>
        </p:blipFill>
        <p:spPr>
          <a:xfrm>
            <a:off x="723960" y="1308240"/>
            <a:ext cx="2031840" cy="507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11120" y="1874880"/>
          <a:ext cx="5075280" cy="2282760"/>
        </p:xfrm>
        <a:graphic>
          <a:graphicData uri="http://schemas.openxmlformats.org/drawingml/2006/table">
            <a:tbl>
              <a:tblPr/>
              <a:tblGrid>
                <a:gridCol w="1052640"/>
                <a:gridCol w="4022640"/>
              </a:tblGrid>
              <a:tr h="22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Home Screen (left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his button takes you out of any menu and back to the home screen.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Contacts (middle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his button takes you to the contacts menu.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Log (right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his button takes you to you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calls / messages.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35760" y="1600200"/>
          <a:ext cx="2880720" cy="2149200"/>
        </p:xfrm>
        <a:graphic>
          <a:graphicData uri="http://schemas.openxmlformats.org/drawingml/2006/table">
            <a:tbl>
              <a:tblPr/>
              <a:tblGrid>
                <a:gridCol w="2880720"/>
              </a:tblGrid>
              <a:tr h="214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Lock and Unlock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Did you ever get one of those mysterious phone calls that sound like they're coming from the inside of someone's pocket?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hat's why we've made it easy to lock the Vodafone Simply mobile phon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30880" y="1189080"/>
            <a:ext cx="66996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57200" y="1965240"/>
            <a:ext cx="965160" cy="2239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03280" y="3475080"/>
            <a:ext cx="96048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206960" y="4206960"/>
          <a:ext cx="4313160" cy="1234800"/>
        </p:xfrm>
        <a:graphic>
          <a:graphicData uri="http://schemas.openxmlformats.org/drawingml/2006/table">
            <a:tbl>
              <a:tblPr/>
              <a:tblGrid>
                <a:gridCol w="4313160"/>
              </a:tblGrid>
              <a:tr h="123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Volume higher/lower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Can’t hear the other party in noisy environment. We've made it easy to adjust the call volume with the volume adjustment side ke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292560" y="3840120"/>
            <a:ext cx="6444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What’s unique about Jerry requirements?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83" name="" descr="Special Buttons"/>
          <p:cNvPicPr/>
          <p:nvPr/>
        </p:nvPicPr>
        <p:blipFill>
          <a:blip r:embed="rId1"/>
          <a:stretch/>
        </p:blipFill>
        <p:spPr>
          <a:xfrm>
            <a:off x="723960" y="1308240"/>
            <a:ext cx="2031840" cy="507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31880" y="4689360"/>
            <a:ext cx="1461960" cy="60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2971800" y="4525920"/>
          <a:ext cx="4313160" cy="1008000"/>
        </p:xfrm>
        <a:graphic>
          <a:graphicData uri="http://schemas.openxmlformats.org/drawingml/2006/table">
            <a:tbl>
              <a:tblPr/>
              <a:tblGrid>
                <a:gridCol w="431316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Power on/off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Could figure out how to power on/off the phone? We have make it easy to power on/off with a separate power button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057400" y="2468520"/>
          <a:ext cx="3017880" cy="1309680"/>
        </p:xfrm>
        <a:graphic>
          <a:graphicData uri="http://schemas.openxmlformats.org/drawingml/2006/table">
            <a:tbl>
              <a:tblPr/>
              <a:tblGrid>
                <a:gridCol w="3017880"/>
              </a:tblGrid>
              <a:tr h="131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Ringer Settings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he Vodafone Simply mobile phone has four ringer settings which can be set using this switch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No mucking about in menus to find the right setting. So no excuses for letting your Vodafone Simply mobile phone ring in the middle of your cousin's wedding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58680" y="1873080"/>
            <a:ext cx="640080" cy="23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What’s unique about Jerry requirements?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User Interface"/>
          <p:cNvPicPr/>
          <p:nvPr/>
        </p:nvPicPr>
        <p:blipFill>
          <a:blip r:embed="rId1"/>
          <a:stretch/>
        </p:blipFill>
        <p:spPr>
          <a:xfrm>
            <a:off x="411120" y="1050840"/>
            <a:ext cx="2095560" cy="444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Vodafone Simply Sagem VS2 - displays your number"/>
          <p:cNvPicPr/>
          <p:nvPr/>
        </p:nvPicPr>
        <p:blipFill>
          <a:blip r:embed="rId2"/>
          <a:srcRect l="40579" t="17765" r="18954" b="48320"/>
          <a:stretch/>
        </p:blipFill>
        <p:spPr>
          <a:xfrm>
            <a:off x="593640" y="2514600"/>
            <a:ext cx="1144800" cy="1415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4680" y="1508040"/>
            <a:ext cx="81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Vodafone has defined its own set of “easy to use” user interf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CALL"/>
          <p:cNvPicPr/>
          <p:nvPr/>
        </p:nvPicPr>
        <p:blipFill>
          <a:blip r:embed="rId3"/>
          <a:stretch/>
        </p:blipFill>
        <p:spPr>
          <a:xfrm>
            <a:off x="2057400" y="251460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dd contact"/>
          <p:cNvPicPr/>
          <p:nvPr/>
        </p:nvPicPr>
        <p:blipFill>
          <a:blip r:embed="rId4"/>
          <a:stretch/>
        </p:blipFill>
        <p:spPr>
          <a:xfrm>
            <a:off x="4800600" y="251460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Log"/>
          <p:cNvPicPr/>
          <p:nvPr/>
        </p:nvPicPr>
        <p:blipFill>
          <a:blip r:embed="rId5"/>
          <a:stretch/>
        </p:blipFill>
        <p:spPr>
          <a:xfrm>
            <a:off x="7407360" y="251460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dd reminder"/>
          <p:cNvPicPr/>
          <p:nvPr/>
        </p:nvPicPr>
        <p:blipFill>
          <a:blip r:embed="rId6"/>
          <a:stretch/>
        </p:blipFill>
        <p:spPr>
          <a:xfrm>
            <a:off x="6126120" y="2514600"/>
            <a:ext cx="1171440" cy="1419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Save numbers"/>
          <p:cNvPicPr/>
          <p:nvPr/>
        </p:nvPicPr>
        <p:blipFill>
          <a:blip r:embed="rId7"/>
          <a:stretch/>
        </p:blipFill>
        <p:spPr>
          <a:xfrm>
            <a:off x="3475080" y="251460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692360" y="4811760"/>
            <a:ext cx="3519360" cy="1574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0760" y="4022640"/>
            <a:ext cx="81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This include “re-packaging” the MMS interface to allow user to send “voice messages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What’s unique about Jerry requirements?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P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requirements are covered in the Steckbrief and Vodafone Simply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rminal Product Definition (TPD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rminal Capabilities Definition (TCD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er Interface, style guide document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12808" r="18607" b="0"/>
          <a:stretch/>
        </p:blipFill>
        <p:spPr>
          <a:xfrm>
            <a:off x="5394240" y="1371600"/>
            <a:ext cx="265104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dmin</cp:lastModifiedBy>
  <dcterms:modified xsi:type="dcterms:W3CDTF">2006-02-13T01:33:21Z</dcterms:modified>
  <cp:revision>64</cp:revision>
  <dc:subject/>
  <dc:title>PowerPoint 簡報</dc:title>
</cp:coreProperties>
</file>